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2EA-BC85-4BD3-88E5-AF978FD3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F62-40E2-4BBD-A0B5-4E9CB9AA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503-2A4F-40F8-9B9A-02545ED7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81C-C4E3-43D1-84E9-2240797A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304-A6A5-415C-B0E9-5B1625CF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62C-C276-49D0-96AC-3BFC3A9F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E11-3DE4-478A-ACAD-88E70443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A33-97B7-45BE-93EA-1D5CF43D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6D2-4D10-4AC1-A7E2-29349B11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62B-0DA0-4D9A-916F-BCA6B443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66B-1D9E-49C2-A28F-FF373303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9CE-7F27-4FFC-9B66-2B5FACB9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757A-6BFF-4FC1-B48D-CD44770E4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380880"/>
            <a:ext cx="6477120" cy="556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257800"/>
            <a:ext cx="58672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edthis Portable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49600" y="60199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edthis App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4267080"/>
            <a:ext cx="586728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Web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600200" y="533520"/>
            <a:ext cx="45720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2419200" y="533520"/>
            <a:ext cx="45720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238560" y="533520"/>
            <a:ext cx="45720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i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4057560" y="533520"/>
            <a:ext cx="45720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i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4876560" y="2743200"/>
            <a:ext cx="50004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s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27432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4876560" y="533160"/>
            <a:ext cx="50004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5715000" y="533160"/>
            <a:ext cx="4572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sl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6362640" y="533160"/>
            <a:ext cx="4572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Ssl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7010280" y="533160"/>
            <a:ext cx="4572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sl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9:26:53Z</dcterms:created>
  <dc:creator>Michael O'Brien</dc:creator>
  <dc:description/>
  <dc:language>en-US</dc:language>
  <cp:lastModifiedBy>Michael O'Brien</cp:lastModifiedBy>
  <dcterms:modified xsi:type="dcterms:W3CDTF">2003-12-31T19:44:33Z</dcterms:modified>
  <cp:revision>2</cp:revision>
  <dc:subject/>
  <dc:title>Slide 1</dc:title>
</cp:coreProperties>
</file>